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944B-14E6-457F-829C-19DB6103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2AEF-F328-49B6-989C-F8CC7089A4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D2DF-4673-4D8D-AE0E-9111E14588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4317-B560-4E59-895A-457391F60B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3A48-F687-4897-BD62-5BCFE264CF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3C5F-63BB-4038-BE3B-11403C9939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1DD6-6160-49E8-BE2D-7FFBF6963E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6945-2292-4FD2-B8EA-BA3A41C7CB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2FE9-20D5-4DA9-A3E2-B530758FEA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4038-E334-4E2F-BE52-35AD98BCE5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2AD2-B6BE-4815-94C9-2C5BB204BB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668A-ECA7-402E-A15B-1B59C7B32E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385B-2529-46E9-BD0C-500A640DFF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4881-0F01-4BF2-8133-CB4A74CC73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3E5A-B394-4921-B397-AB895A81A0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61EA-E7EA-42B7-9A68-B28A77F397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BF4D-7613-460B-8FF4-ACCA3AFDF5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4457-743E-4D55-8437-E61F48A85E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5728-100A-458F-9CB9-B38D3A88BB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244C-89EC-4DB9-A6AF-58158A0B19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6A03-F0DA-46EF-9A47-1A9D2EEF9A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E784-4FA2-4455-850F-D32A4A2605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D461-A0EE-4FF2-857C-5993D706A5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89F-EFA8-489D-8B1A-522BA12E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715-B484-4830-A39F-A980DE78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533-2697-4494-8F22-5B70C6EF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009-3B9C-4946-8B56-707B1FAA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A44D-A986-42AF-98DE-EFA7F725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F459-5476-4B0A-9618-BA781CAA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14AE-E42B-4E2D-A4BA-C2DBEE86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7086-5493-4B8B-99C8-89833D40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F9E0-A8A3-48BC-A555-7C7F4A5F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B53D-066B-4E3C-86E6-C6F3ACDB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894A-C190-492E-8D3E-52E024FE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1F9-1777-4EA0-A565-52E653E0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3F8C-57E4-4899-A445-2CE75C81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50C7-FF1F-4109-8DEB-E1CBE12F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1264-781E-4C12-9392-610FEED4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5F11-2498-49D9-9DB6-31337CB1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AE51-B913-42FF-B55A-FE026187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991-774A-4B91-845B-8F4F7145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A7D-848B-4DE0-AC88-3810E8B1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E9B-7BB2-4775-99F1-7D6753D5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FCD-7018-42EB-A8B3-400D4BBC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964-86BD-42FF-BF74-68096686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9F6-DCC1-4478-B39C-2838AB21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5AA-442B-45ED-919B-33832A0C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520F-19E6-406D-8CA0-11870D356E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B47E-6E19-4C73-BB5E-B7981ABFE2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04920" y="913680"/>
            <a:ext cx="86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apter Fourtee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ctional Conflict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ebate over Slavery in the 1850s, and the Path to Sece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ST 21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80880" y="1066680"/>
            <a:ext cx="4572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idency of Franklin Pie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end Manif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ntral Ame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libustering Exped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09480" y="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Kansas-Nebraska Act (1854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300px-Gadsden_Purchase_Cities"/>
          <p:cNvPicPr/>
          <p:nvPr/>
        </p:nvPicPr>
        <p:blipFill>
          <a:blip r:embed="rId1"/>
          <a:stretch/>
        </p:blipFill>
        <p:spPr>
          <a:xfrm>
            <a:off x="4495680" y="3733920"/>
            <a:ext cx="449604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80880" y="1066680"/>
            <a:ext cx="46483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tl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ilroad route to We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vantages of railr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bitions of Stephen Doug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Kansas-Nebraska A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ritorial gov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pular sovereign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itic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raham Lincol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ographical conside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09480" y="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Kansas-Nebraska Act (1854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186"/>
          <p:cNvPicPr/>
          <p:nvPr/>
        </p:nvPicPr>
        <p:blipFill>
          <a:blip r:embed="rId1"/>
          <a:stretch/>
        </p:blipFill>
        <p:spPr>
          <a:xfrm>
            <a:off x="5334120" y="1066680"/>
            <a:ext cx="3492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kansasnebraskaact_big"/>
          <p:cNvPicPr/>
          <p:nvPr/>
        </p:nvPicPr>
        <p:blipFill>
          <a:blip r:embed="rId1"/>
          <a:stretch/>
        </p:blipFill>
        <p:spPr>
          <a:xfrm>
            <a:off x="914400" y="990720"/>
            <a:ext cx="70959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380880" y="1066680"/>
            <a:ext cx="46483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sponse in Kansas-185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eeding Kansa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der Ruffians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lition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echer’s B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hn Brown and the massacre at Pottawatomie Cr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09480" y="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Kansas-Nebraska A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7" descr="pottawatomie"/>
          <p:cNvPicPr/>
          <p:nvPr/>
        </p:nvPicPr>
        <p:blipFill>
          <a:blip r:embed="rId1"/>
          <a:stretch/>
        </p:blipFill>
        <p:spPr>
          <a:xfrm>
            <a:off x="5943600" y="1828800"/>
            <a:ext cx="287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3b38347v5w"/>
          <p:cNvPicPr/>
          <p:nvPr/>
        </p:nvPicPr>
        <p:blipFill>
          <a:blip r:embed="rId1"/>
          <a:stretch/>
        </p:blipFill>
        <p:spPr>
          <a:xfrm>
            <a:off x="533520" y="533520"/>
            <a:ext cx="822456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80880" y="1066680"/>
            <a:ext cx="46483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rime Against Kansa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ton Brooks (D-SC) canes Charles Sumner (R-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m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09480" y="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Kansas-Nebraska A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9" descr="Preston_Brooks_cartoon"/>
          <p:cNvPicPr/>
          <p:nvPr/>
        </p:nvPicPr>
        <p:blipFill>
          <a:blip r:embed="rId1"/>
          <a:stretch/>
        </p:blipFill>
        <p:spPr>
          <a:xfrm>
            <a:off x="2743200" y="2438280"/>
            <a:ext cx="61722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Dred Scott v. Sandford (1856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28600" y="1143000"/>
            <a:ext cx="4952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osition of Supreme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jority proslavery Southern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acts of the C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l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acks have no citizenship righ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gress cannot legislate on legality of slavery in the terr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lies that regulating slavery is unconstitution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0" descr="DRED-SCOTT"/>
          <p:cNvPicPr/>
          <p:nvPr/>
        </p:nvPicPr>
        <p:blipFill>
          <a:blip r:embed="rId1"/>
          <a:stretch/>
        </p:blipFill>
        <p:spPr>
          <a:xfrm>
            <a:off x="5638680" y="1066680"/>
            <a:ext cx="3333960" cy="4067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taney"/>
          <p:cNvPicPr/>
          <p:nvPr/>
        </p:nvPicPr>
        <p:blipFill>
          <a:blip r:embed="rId2"/>
          <a:stretch/>
        </p:blipFill>
        <p:spPr>
          <a:xfrm>
            <a:off x="2971800" y="4295880"/>
            <a:ext cx="24163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Election of 185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28600" y="1143000"/>
            <a:ext cx="4952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national election featuring new Republican Pa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mocrats: James Buchan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ublicans: John C. Fremont, “The Pathfinder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rican Party: Millard Fill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28600" y="1981080"/>
            <a:ext cx="441972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000000b9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0880" y="1371600"/>
            <a:ext cx="4648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lavery Lecompton Constit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gusly written and bogusly appro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chanan tries to get KS admitted as slave 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se debate in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wrence Keit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hen Doug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nglish Compromi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nsas and the Lecompton Constitution (‘57-’58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1" descr="KSMap-doton-Lecompton"/>
          <p:cNvPicPr/>
          <p:nvPr/>
        </p:nvPicPr>
        <p:blipFill>
          <a:blip r:embed="rId1"/>
          <a:stretch/>
        </p:blipFill>
        <p:spPr>
          <a:xfrm>
            <a:off x="4648320" y="1981080"/>
            <a:ext cx="411480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457200" y="763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ey Term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895320" y="865080"/>
            <a:ext cx="7542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228600" y="1371600"/>
            <a:ext cx="4648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linois Senator el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deb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iews 1860 campa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Lincoln-Douglas Debates (1858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7" descr="Lincoln-Douglas-Debate_larg"/>
          <p:cNvPicPr/>
          <p:nvPr/>
        </p:nvPicPr>
        <p:blipFill>
          <a:blip r:embed="rId1"/>
          <a:stretch/>
        </p:blipFill>
        <p:spPr>
          <a:xfrm>
            <a:off x="4114800" y="18288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228600" y="838080"/>
            <a:ext cx="46483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ecret S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p to C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per’s Ferry Raid, Oct. ’5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wn captured; total fail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. Lee and Jeb Stua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ohn Brown’s Rai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10" descr="harpersferry2a"/>
          <p:cNvPicPr/>
          <p:nvPr/>
        </p:nvPicPr>
        <p:blipFill>
          <a:blip r:embed="rId1"/>
          <a:stretch/>
        </p:blipFill>
        <p:spPr>
          <a:xfrm>
            <a:off x="1371600" y="3733920"/>
            <a:ext cx="4191120" cy="2793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John Brown"/>
          <p:cNvPicPr/>
          <p:nvPr/>
        </p:nvPicPr>
        <p:blipFill>
          <a:blip r:embed="rId2"/>
          <a:stretch/>
        </p:blipFill>
        <p:spPr>
          <a:xfrm>
            <a:off x="6248520" y="1371600"/>
            <a:ext cx="2049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2286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al and exec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onewall Jack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mund Ruff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ents of Br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 on the 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ohn Brown’s Rai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9" descr="39_4_malin03"/>
          <p:cNvPicPr/>
          <p:nvPr/>
        </p:nvPicPr>
        <p:blipFill>
          <a:blip r:embed="rId1"/>
          <a:stretch/>
        </p:blipFill>
        <p:spPr>
          <a:xfrm>
            <a:off x="5029200" y="1295280"/>
            <a:ext cx="33526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286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mocr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arleston and Baltimore Conven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hen Douglas (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hn Breckenridge 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ublic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raham Lincol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al U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hn Be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Election of 18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39_4_malin03"/>
          <p:cNvPicPr/>
          <p:nvPr/>
        </p:nvPicPr>
        <p:blipFill>
          <a:blip r:embed="rId1"/>
          <a:stretch/>
        </p:blipFill>
        <p:spPr>
          <a:xfrm>
            <a:off x="5029200" y="1295280"/>
            <a:ext cx="3352680" cy="4105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8"/>
          <p:cNvSpPr/>
          <p:nvPr/>
        </p:nvSpPr>
        <p:spPr>
          <a:xfrm>
            <a:off x="152280" y="3200400"/>
            <a:ext cx="29718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000000bd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68580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estion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80880" y="101268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. What was the Fugitive Slave Act and why was it controversial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. What wa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ncle Tom’s Cabi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nd why was it controversial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. How was the Kansas-Nebraska Act related to wider discussions about slaver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4. What are some of the events of the 1850s that seemed to foreshadow the American Civil W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0880" y="1295280"/>
            <a:ext cx="4572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ap, Comp. of 18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ugitive Slave A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deral commission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trial by jury or due pro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itizens can be forced to assist or else face prosec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angers free blacks or escaped bla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09480" y="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ugitive Slave A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380880" y="1219320"/>
            <a:ext cx="4572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spon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ousands fled to Can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derground Railr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eet Patr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ee black convention in Roches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thern resist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09480" y="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ugitive Slave A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228600" y="1066680"/>
            <a:ext cx="4572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drach Minkins-185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eed in Bos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Burns-185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ced back into slav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00 forced back into slav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ional hysteria and deb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609480" y="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ugitive Slave A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3b37099v12w"/>
          <p:cNvPicPr/>
          <p:nvPr/>
        </p:nvPicPr>
        <p:blipFill>
          <a:blip r:embed="rId1"/>
          <a:stretch/>
        </p:blipFill>
        <p:spPr>
          <a:xfrm>
            <a:off x="4518000" y="762120"/>
            <a:ext cx="4626000" cy="59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380880" y="1219320"/>
            <a:ext cx="4572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riet Beecher Stow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response to F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09480" y="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Uncle Tom’s Cab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8" descr="cwp65"/>
          <p:cNvPicPr/>
          <p:nvPr/>
        </p:nvPicPr>
        <p:blipFill>
          <a:blip r:embed="rId1"/>
          <a:stretch/>
        </p:blipFill>
        <p:spPr>
          <a:xfrm>
            <a:off x="4419720" y="838080"/>
            <a:ext cx="444816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80880" y="838080"/>
            <a:ext cx="4572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Tom No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ntifanatic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unt Phyllis’ Cab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a Campa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th, South, Frederick Douglass’ newspap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Uncle Tom’s Cab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auntphyllis"/>
          <p:cNvPicPr/>
          <p:nvPr/>
        </p:nvPicPr>
        <p:blipFill>
          <a:blip r:embed="rId1"/>
          <a:stretch/>
        </p:blipFill>
        <p:spPr>
          <a:xfrm>
            <a:off x="5562720" y="1066680"/>
            <a:ext cx="2901960" cy="4648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antitomad"/>
          <p:cNvPicPr/>
          <p:nvPr/>
        </p:nvPicPr>
        <p:blipFill>
          <a:blip r:embed="rId2"/>
          <a:stretch/>
        </p:blipFill>
        <p:spPr>
          <a:xfrm>
            <a:off x="1905120" y="3657600"/>
            <a:ext cx="2700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380880" y="1219320"/>
            <a:ext cx="4572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idency of Franklin Pie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end Manif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ntral Ame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libustering Exped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09480" y="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pread of Slavery Re-appea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pierce-large"/>
          <p:cNvPicPr/>
          <p:nvPr/>
        </p:nvPicPr>
        <p:blipFill>
          <a:blip r:embed="rId1"/>
          <a:stretch/>
        </p:blipFill>
        <p:spPr>
          <a:xfrm>
            <a:off x="5791320" y="1523880"/>
            <a:ext cx="2760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20:34:09Z</dcterms:created>
  <dc:creator>Daniel J. Tortora</dc:creator>
  <dc:description/>
  <dc:language>en-US</dc:language>
  <cp:lastModifiedBy>Williamson, Franklin</cp:lastModifiedBy>
  <dcterms:modified xsi:type="dcterms:W3CDTF">2019-04-16T19:35:18Z</dcterms:modified>
  <cp:revision>120</cp:revision>
  <dc:subject/>
  <dc:title>The Early Republic</dc:title>
</cp:coreProperties>
</file>